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E405-5210-45D2-84DF-F9A696A6D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D24F-B547-4B9A-8C39-E9A25C5F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6552-D4DB-4532-8085-BE4E6C85C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5203-D20D-487F-8B19-783EDB97F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D0C7-239A-48B1-88FC-413C031A0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80FA-A686-437E-9495-A88D7700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9E0C-4B9F-4738-8DFF-3927AFB0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4172-ECD6-4CFD-BCED-48681502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496A-A5D0-4748-93B2-745CCEAF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B0B9-85EB-44EF-BEDF-0364CBB7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26B7-E2DB-4A8C-ABE2-DD4D7F0C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8634-55E5-438E-B336-6354993E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AE88-0EC7-48E9-A09E-266B09AE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6CCE-94AD-4E6A-9D5D-48133811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82E0-0E16-40EB-969E-75FFAD98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B2D7-82CA-473D-BCC4-8DCB64500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B1D4-0E1F-4B55-9BDE-26C994EA7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245D-AC52-40B7-AF6C-970E88CE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9194-83F5-4F03-9B37-69CA9178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C278-238D-4BF6-B7D2-8E686EEC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8E4A-65A3-4305-9A4E-1F8FF5A5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276B-38D1-46F2-9D87-E4D1AFD3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DE34-CED5-43AD-B297-02087A50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0C30-29A0-4DC2-8FA0-BE583E75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cc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99cc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99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99cc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cc00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8523-A56A-437D-9FB3-41722952A49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3CD7-417B-4982-A01A-FC73A952FE2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cc00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99cc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99cc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JORDA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apter 17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905120" y="3124080"/>
            <a:ext cx="579096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19320" y="533520"/>
            <a:ext cx="6983280" cy="52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Land</a:t>
            </a: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cc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et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286000" y="3581280"/>
            <a:ext cx="3886200" cy="2914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33520" y="2362320"/>
            <a:ext cx="1782720" cy="2674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511960" y="0"/>
            <a:ext cx="3632040" cy="4610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400800" y="57150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00800" y="54100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Jordan 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Economy</a:t>
            </a: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cc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Manufacturing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99cc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qab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3915000" cy="2457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33520" y="3200400"/>
            <a:ext cx="3609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People</a:t>
            </a: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cc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mman – Capita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99cc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4.7 Muslim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99cc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1 Milli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alestinian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495680" y="1828800"/>
            <a:ext cx="4470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Government/History</a:t>
            </a: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cc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ttoma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99cc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1946 Independence from British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99cc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onstitutional Monarch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99cc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King Hussei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99cc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King Abdullah II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00600" y="3809880"/>
            <a:ext cx="377496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17:40:36Z</dcterms:created>
  <dc:creator>Joe Dirt</dc:creator>
  <dc:description/>
  <dc:language>en-US</dc:language>
  <cp:lastModifiedBy>Joe Dirt</cp:lastModifiedBy>
  <dcterms:modified xsi:type="dcterms:W3CDTF">2008-01-07T20:49:07Z</dcterms:modified>
  <cp:revision>3</cp:revision>
  <dc:subject/>
  <dc:title>JORDAN     Chapter 17</dc:title>
</cp:coreProperties>
</file>